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1.gif" ContentType="image/gif"/>
  <Override PartName="/ppt/media/image14.png" ContentType="image/png"/>
  <Override PartName="/ppt/media/image26.wmf" ContentType="image/x-wmf"/>
  <Override PartName="/ppt/media/image23.gif" ContentType="image/gif"/>
  <Override PartName="/ppt/media/image24.gif" ContentType="image/gif"/>
  <Override PartName="/ppt/media/image21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19.gif" ContentType="image/gif"/>
  <Override PartName="/ppt/media/image10.png" ContentType="image/png"/>
  <Override PartName="/ppt/media/image15.gif" ContentType="image/gif"/>
  <Override PartName="/ppt/media/image3.jpeg" ContentType="image/jpeg"/>
  <Override PartName="/ppt/media/image25.png" ContentType="image/png"/>
  <Override PartName="/ppt/media/image22.gif" ContentType="image/gif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F8A1-8C62-4E01-9E59-7E52950B8A68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スライド番号プレースホルダ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951D-8D4E-43A0-94BF-60B77E691860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D7B-E914-414E-9963-FA3D5C07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5FA-E680-4962-BE1F-0EC449F0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A2B-B17A-454E-A359-82510929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7E4-F7E6-4066-B511-09E08524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E473-9871-49D1-A0B5-2A979093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C7ED-6ED0-4418-91AB-4CCF1D70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C979-332B-43FC-8EBC-68771B39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4C36-8475-43F0-BDFA-284A3BB6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2DEB-C8D7-4B73-B284-4F08BABE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6EA7-F410-4ABB-B064-96C45166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4CEA-87CD-4194-93B1-43240E08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AD4-6C2A-462D-B965-3E44C23D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68B3-E603-4025-B67F-3156CD01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9C83-BC76-46E4-8B5E-906F569B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8951-DF7E-42EA-9823-301B2BBC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7CA9-8516-4C1F-A2CA-7C50FDDE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02D5-2632-4F5C-8A65-602326BE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65465-68EF-4A5B-AE0E-64822A70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1492E-0E80-461F-A5F6-B149B694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74F7D-E1EA-4A9D-8A32-FF2C8839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C9FE7-9572-4373-AB35-08352746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C1EB5-0189-46B0-8F60-871022BC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F20-07F6-4BA3-8372-97D72320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E47D4-78C8-49DC-B63A-A7C5F7A6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029C4-D189-4A03-9D25-853E94C4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20486-09C2-4808-A85D-E37AFBF4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BCAEE-09ED-4C4B-8783-373A5AA8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FB69C-6E5D-489D-92A2-EADAEB36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B090D-1FF0-4124-9EDC-C398267E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66F34-D3CB-4A32-BBA3-A986A2D4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1F7E-2B36-4835-A347-9C7D1EC9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D305F-A560-4645-AB9E-315E9C16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EE772-97D0-40A8-AFFC-61C58963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1AE-68F9-4196-8737-EA372430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E92D1-1638-45C1-AEA3-B986E198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A04D9-921B-411C-8F15-C609CD6D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71B29-55FE-43FF-81BF-3F25AE0C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0C605-577E-49AD-828B-E5019512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F1D70-9656-4FA1-A086-933AA90E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863C7-D70D-431F-8453-F68F104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78733-723E-49E5-8559-914C006C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2E938-DDE0-4284-A034-B59672CB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69A1B-2FCB-417F-93F4-62A54525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2F2F6A-9CE1-475A-816E-D67C744F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B9C-9887-49BD-984B-1BA25C0A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E45486-386C-467D-8F29-A95C106C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F1EB5-F388-4F98-B12A-7A680427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0E50D-9BE8-47C1-BC26-8B52FD00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116DD3-F459-4DAD-8C0F-B155FF1A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2F18BA-BA80-4FBA-8DE0-61F210D7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A43125-1C09-4DF9-97DA-92E230C1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D4862-19B1-4656-B145-AE79C901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002F76-4225-4F4A-90C7-9CBB2645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7FCF6-1A7C-4EDA-AED3-D35C87DA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A0A83D-60A9-4DAF-B7A4-62C082E3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CFC-DCCF-4CB4-9A06-6E595C50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7C31E-2AAD-4BE6-BE72-A49A2642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1DD697-E5D7-42B9-B63F-1CE84C50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9D1FF-E2FF-477F-8ADE-B423965F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ECB4C-D3DF-48BC-9A8A-5A22FEC0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7C59B-6AEC-4A19-8092-2E58BAC3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EF762-0733-4FA8-A9AB-6FBE332C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D49FD-B622-4466-AEED-ADDE0533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F9554-10F0-422C-AADB-9A53D11E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697A0-36C8-490C-BAB8-DDD8D4F2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F3737-BE00-4570-8C0E-5B3CC1E5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DEF-1165-4D2F-B871-B78B8C5E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A5E67-889B-415D-9E57-E394B788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8AD667-ECDA-4E30-913A-CB3510DB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8EA9C-F0E8-4541-B726-EDD72577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0BF52-3A61-44A4-883D-2D6C40BC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74326A-3704-4260-B092-3172EB54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B86973-B512-48BC-A115-9F5F33F6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78DDDF-01C6-4C86-9335-C550D3A1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930FC-2300-4405-8066-64245E3E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6F6DAE-4D66-4227-991F-9B0859EB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255EB7-D9A3-4965-B731-7069232B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983-9DCC-449F-9616-043EACF4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0D4A6-BC35-4B23-8545-047CEB34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DB2B8-9301-4C06-97A7-C69F4A4A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F1CEE-9AA2-411F-B151-336F670F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EC6CAF-2A66-45F5-9D56-E16233DA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507B3E-3D48-46B3-944F-EDE1018C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32B-1979-4C4F-8D1D-C1A5E9B1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コネクタ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F1A9-12CB-46F3-AC38-310E249B18C4}" type="datetime">
              <a:rPr b="0" lang="ja-JP" sz="1200" spc="-1" strike="noStrike">
                <a:solidFill>
                  <a:srgbClr val="575f6d"/>
                </a:solidFill>
                <a:latin typeface="Times New Roman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直線コネクタ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直線コネクタ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正方形/長方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直線コネクタ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円/楕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61C3-C056-4050-8039-BAAD6C9AA161}" type="slidenum">
              <a:rPr b="1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正方形/長方形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正方形/長方形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正方形/長方形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正方形/長方形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直線コネクタ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直線コネクタ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直線コネクタ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直線コネクタ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直線コネクタ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直線コネクタ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正方形/長方形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円/楕円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円/楕円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円/楕円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円/楕円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円/楕円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E9EA-406D-422D-9952-197B6BAFEA2F}" type="datetime">
              <a:rPr b="0" lang="ja-JP" sz="1200" spc="-1" strike="noStrike">
                <a:solidFill>
                  <a:srgbClr val="575f6d"/>
                </a:solidFill>
                <a:latin typeface="Times New Roman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97D1-705A-4A03-866C-449BA0B58895}" type="slidenum">
              <a:rPr b="1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線コネクタ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直線コネクタ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直線コネクタ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正方形/長方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直線コネクタ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円/楕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7B88-C2D2-4183-BB3B-56492B13CB14}" type="datetime">
              <a:rPr b="0" lang="ja-JP" sz="1200" spc="-1" strike="noStrike">
                <a:solidFill>
                  <a:srgbClr val="575f6d"/>
                </a:solidFill>
                <a:latin typeface="Times New Roman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A0EF-140C-4B07-AAEB-31BB4E0E7DC9}" type="slidenum">
              <a:rPr b="1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正方形/長方形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正方形/長方形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正方形/長方形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正方形/長方形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直線コネクタ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直線コネクタ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直線コネクタ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直線コネクタ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直線コネクタ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正方形/長方形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円/楕円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円/楕円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円/楕円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円/楕円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円/楕円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直線コネクタ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A7BC-5CD7-487B-B8E4-00260D4819C9}" type="datetime">
              <a:rPr b="0" lang="ja-JP" sz="1200" spc="-1" strike="noStrike">
                <a:solidFill>
                  <a:srgbClr val="fff39d"/>
                </a:solidFill>
                <a:latin typeface="Times New Roman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A057-BDDE-4A3E-9AEA-1CEF263F17D8}" type="slidenum">
              <a:rPr b="1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線コネクタ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直線コネクタ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直線コネクタ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正方形/長方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直線コネクタ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円/楕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65B8-F067-4C6B-B3ED-2081B46A980A}" type="datetime">
              <a:rPr b="0" lang="ja-JP" sz="1200" spc="-1" strike="noStrike">
                <a:solidFill>
                  <a:srgbClr val="575f6d"/>
                </a:solidFill>
                <a:latin typeface="Times New Roman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36C1-8B5D-49D8-B6E8-17CEAFD4855D}" type="slidenum">
              <a:rPr b="1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直線コネクタ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直線コネクタ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直線コネクタ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直線コネクタ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正方形/長方形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直線コネクタ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円/楕円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FD7C-A01B-40DA-90CD-7B7A4B168188}" type="datetime">
              <a:rPr b="0" lang="ja-JP" sz="1200" spc="-1" strike="noStrike">
                <a:solidFill>
                  <a:srgbClr val="575f6d"/>
                </a:solidFill>
                <a:latin typeface="Times New Roman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2E94-86E7-48DD-9CF9-8CD32087412B}" type="slidenum">
              <a:rPr b="1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直線コネクタ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円/楕円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直線コネクタ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正方形/長方形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直線コネクタ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直線コネクタ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直線コネクタ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CE54-24EE-4B86-AC69-08909FBA4BD9}" type="datetime">
              <a:rPr b="0" lang="ja-JP" sz="1200" spc="-1" strike="noStrike">
                <a:solidFill>
                  <a:srgbClr val="575f6d"/>
                </a:solidFill>
                <a:latin typeface="Times New Roman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C4C6-4E9F-4818-8337-F3556FC559AF}" type="slidenum">
              <a:rPr b="1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elease.center.jp/2009/04/1401.html" TargetMode="External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mixi.jp/view_album_photo.pl?album_id=34007795&amp;owner_id=9317837&amp;number=2475086777&amp;page=1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e8637"/>
                </a:solidFill>
                <a:latin typeface="Century Schoolbook"/>
              </a:rPr>
              <a:t>店舗内刺激（テスター）で</a:t>
            </a:r>
            <a:br>
              <a:rPr sz="5400"/>
            </a:br>
            <a:r>
              <a:rPr b="1" lang="ja-JP" sz="5400" spc="-1" strike="noStrike">
                <a:solidFill>
                  <a:srgbClr val="fe8637"/>
                </a:solidFill>
                <a:latin typeface="Century Schoolbook"/>
              </a:rPr>
              <a:t>非計画購買を促進させる方法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4429080"/>
            <a:ext cx="61722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575f6d"/>
                </a:solidFill>
                <a:latin typeface="Century Schoolbook"/>
              </a:rPr>
              <a:t>　　　　　　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575f6d"/>
                </a:solidFill>
                <a:latin typeface="Century Schoolbook"/>
              </a:rPr>
              <a:t>　　　　　　　青山学院大学　土橋ゼミナール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575f6d"/>
                </a:solidFill>
                <a:latin typeface="Century Schoolbook"/>
              </a:rPr>
              <a:t>　　　　　　　　久保田茂寛　　　小林竜也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575f6d"/>
                </a:solidFill>
                <a:latin typeface="Century Schoolbook"/>
              </a:rPr>
              <a:t>　　　　　　　　隅蔵亜美　　　染谷智華子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グループ化 14"/>
          <p:cNvGrpSpPr/>
          <p:nvPr/>
        </p:nvGrpSpPr>
        <p:grpSpPr>
          <a:xfrm>
            <a:off x="642960" y="1214280"/>
            <a:ext cx="6929280" cy="4929480"/>
            <a:chOff x="642960" y="1214280"/>
            <a:chExt cx="6929280" cy="4929480"/>
          </a:xfrm>
        </p:grpSpPr>
        <p:graphicFrame>
          <p:nvGraphicFramePr>
            <p:cNvPr id="452" name="Object 2"/>
            <p:cNvGraphicFramePr/>
            <p:nvPr/>
          </p:nvGraphicFramePr>
          <p:xfrm>
            <a:off x="642960" y="1458360"/>
            <a:ext cx="6929280" cy="468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2960" y="1458360"/>
                      <a:ext cx="6929280" cy="468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54" name="グループ化 12"/>
            <p:cNvGrpSpPr/>
            <p:nvPr/>
          </p:nvGrpSpPr>
          <p:grpSpPr>
            <a:xfrm>
              <a:off x="2930760" y="3250800"/>
              <a:ext cx="1045800" cy="1303200"/>
              <a:chOff x="2930760" y="3250800"/>
              <a:chExt cx="1045800" cy="1303200"/>
            </a:xfrm>
          </p:grpSpPr>
          <p:sp>
            <p:nvSpPr>
              <p:cNvPr id="455" name="円形吹き出し 5"/>
              <p:cNvSpPr/>
              <p:nvPr/>
            </p:nvSpPr>
            <p:spPr>
              <a:xfrm>
                <a:off x="2930760" y="3250800"/>
                <a:ext cx="1045800" cy="1303200"/>
              </a:xfrm>
              <a:prstGeom prst="wedgeEllipseCallout">
                <a:avLst>
                  <a:gd name="adj1" fmla="val 13106"/>
                  <a:gd name="adj2" fmla="val 65250"/>
                </a:avLst>
              </a:prstGeom>
              <a:solidFill>
                <a:srgbClr val="fff39d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456" name="テキスト ボックス 8"/>
              <p:cNvSpPr/>
              <p:nvPr/>
            </p:nvSpPr>
            <p:spPr>
              <a:xfrm>
                <a:off x="3126600" y="3598200"/>
                <a:ext cx="71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800" spc="-1" strike="noStrike">
                    <a:solidFill>
                      <a:srgbClr val="000000"/>
                    </a:solidFill>
                    <a:latin typeface="Century Schoolbook"/>
                  </a:rPr>
                  <a:t>５９</a:t>
                </a:r>
                <a:endParaRPr b="0" lang="en-US" sz="2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grpSp>
          <p:nvGrpSpPr>
            <p:cNvPr id="457" name="グループ化 13"/>
            <p:cNvGrpSpPr/>
            <p:nvPr/>
          </p:nvGrpSpPr>
          <p:grpSpPr>
            <a:xfrm>
              <a:off x="4173120" y="3250800"/>
              <a:ext cx="1045800" cy="1303200"/>
              <a:chOff x="4173120" y="3250800"/>
              <a:chExt cx="1045800" cy="1303200"/>
            </a:xfrm>
          </p:grpSpPr>
          <p:sp>
            <p:nvSpPr>
              <p:cNvPr id="458" name="円形吹き出し 7"/>
              <p:cNvSpPr/>
              <p:nvPr/>
            </p:nvSpPr>
            <p:spPr>
              <a:xfrm>
                <a:off x="4173120" y="3250800"/>
                <a:ext cx="1045800" cy="1303200"/>
              </a:xfrm>
              <a:prstGeom prst="wedgeEllipseCallout">
                <a:avLst>
                  <a:gd name="adj1" fmla="val -12347"/>
                  <a:gd name="adj2" fmla="val 70259"/>
                </a:avLst>
              </a:prstGeom>
              <a:solidFill>
                <a:srgbClr val="fff39d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459" name="テキスト ボックス 9"/>
              <p:cNvSpPr/>
              <p:nvPr/>
            </p:nvSpPr>
            <p:spPr>
              <a:xfrm>
                <a:off x="4368960" y="3598200"/>
                <a:ext cx="65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800" spc="-1" strike="noStrike">
                    <a:solidFill>
                      <a:srgbClr val="000000"/>
                    </a:solidFill>
                    <a:latin typeface="Century Schoolbook"/>
                  </a:rPr>
                  <a:t>１６</a:t>
                </a:r>
                <a:endParaRPr b="0" lang="en-US" sz="2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460" name="テキスト ボックス 11"/>
            <p:cNvSpPr/>
            <p:nvPr/>
          </p:nvSpPr>
          <p:spPr>
            <a:xfrm>
              <a:off x="2081160" y="1214280"/>
              <a:ext cx="40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entury Schoolbook"/>
                </a:rPr>
                <a:t>商品接触後の購買行動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61" name="テキスト ボックス 15"/>
          <p:cNvSpPr/>
          <p:nvPr/>
        </p:nvSpPr>
        <p:spPr>
          <a:xfrm>
            <a:off x="0" y="0"/>
            <a:ext cx="95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Century Schoolbook"/>
              </a:rPr>
              <a:t>テスターは購入に貢献しているか？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テキスト ボックス 16"/>
          <p:cNvSpPr/>
          <p:nvPr/>
        </p:nvSpPr>
        <p:spPr>
          <a:xfrm>
            <a:off x="5429160" y="60721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（コスメネクスト　２００９）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3" name="Picture 12" descr="C:\Program Files\Microsoft Office\Media\CntCD1\Animated\j0285269.gif"/>
          <p:cNvPicPr/>
          <p:nvPr/>
        </p:nvPicPr>
        <p:blipFill>
          <a:blip r:embed="rId3"/>
          <a:stretch/>
        </p:blipFill>
        <p:spPr>
          <a:xfrm>
            <a:off x="357120" y="4929120"/>
            <a:ext cx="1114560" cy="1643040"/>
          </a:xfrm>
          <a:prstGeom prst="rect">
            <a:avLst/>
          </a:prstGeom>
          <a:ln w="0">
            <a:noFill/>
          </a:ln>
        </p:spPr>
      </p:pic>
      <p:sp>
        <p:nvSpPr>
          <p:cNvPr id="464" name="スライド番号プレースホルダ 20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7A06-1B03-4E22-A0C1-3BF1A00747A4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5" name="Object 2"/>
          <p:cNvGraphicFramePr/>
          <p:nvPr/>
        </p:nvGraphicFramePr>
        <p:xfrm>
          <a:off x="785880" y="85716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8571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テキスト ボックス 4"/>
          <p:cNvSpPr/>
          <p:nvPr/>
        </p:nvSpPr>
        <p:spPr>
          <a:xfrm>
            <a:off x="2500200" y="19288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Century Schoolbook"/>
              </a:rPr>
              <a:t>１１．３％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テキスト ボックス 5"/>
          <p:cNvSpPr/>
          <p:nvPr/>
        </p:nvSpPr>
        <p:spPr>
          <a:xfrm>
            <a:off x="1571760" y="3714840"/>
            <a:ext cx="192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Century Schoolbook"/>
              </a:rPr>
              <a:t>８８．７％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69" name="グループ化 10"/>
          <p:cNvGrpSpPr/>
          <p:nvPr/>
        </p:nvGrpSpPr>
        <p:grpSpPr>
          <a:xfrm>
            <a:off x="0" y="4786200"/>
            <a:ext cx="8929800" cy="1820880"/>
            <a:chOff x="0" y="4786200"/>
            <a:chExt cx="8929800" cy="1820880"/>
          </a:xfrm>
        </p:grpSpPr>
        <p:grpSp>
          <p:nvGrpSpPr>
            <p:cNvPr id="470" name="対角する 2 つの角を切り取った四角形 6"/>
            <p:cNvGrpSpPr/>
            <p:nvPr/>
          </p:nvGrpSpPr>
          <p:grpSpPr>
            <a:xfrm>
              <a:off x="0" y="4786200"/>
              <a:ext cx="8929800" cy="1820880"/>
              <a:chOff x="0" y="4786200"/>
              <a:chExt cx="8929800" cy="1820880"/>
            </a:xfrm>
          </p:grpSpPr>
          <p:pic>
            <p:nvPicPr>
              <p:cNvPr id="471" name="対角する 2 つの角を切り取った四角形 6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4786200"/>
                <a:ext cx="8929800" cy="18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282600" y="5038920"/>
                <a:ext cx="835740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473" name="テキスト ボックス 7"/>
            <p:cNvSpPr/>
            <p:nvPr/>
          </p:nvSpPr>
          <p:spPr>
            <a:xfrm>
              <a:off x="827640" y="4969440"/>
              <a:ext cx="71287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entury Schoolbook"/>
                </a:rPr>
                <a:t>商品接触率、試用率ともに比較的高く、</a:t>
              </a:r>
              <a:r>
                <a:rPr b="1" lang="ja-JP" sz="2800" spc="-1" strike="noStrike">
                  <a:solidFill>
                    <a:srgbClr val="000000"/>
                  </a:solidFill>
                  <a:latin typeface="Century Schoolbook"/>
                </a:rPr>
                <a:t>一番落ち込みが大きいのは購入率</a:t>
              </a:r>
              <a:r>
                <a:rPr b="0" lang="ja-JP" sz="2800" spc="-1" strike="noStrike">
                  <a:solidFill>
                    <a:srgbClr val="000000"/>
                  </a:solidFill>
                  <a:latin typeface="Century Schoolbook"/>
                </a:rPr>
                <a:t>。買う決心をさせる何かが足りない。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 Schoolbook"/>
                </a:rPr>
                <a:t>（コスメネクスト　２００９）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582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Century Schoolbook"/>
              </a:rPr>
              <a:t>テスターは購入に貢献しているか？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スライド番号プレースホルダ 1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8D2A-5DF1-40D4-AC4C-2BA669FAFDB7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Century Schoolbook"/>
              </a:rPr>
              <a:t>問題意識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477" name="グループ化 6"/>
          <p:cNvGrpSpPr/>
          <p:nvPr/>
        </p:nvGrpSpPr>
        <p:grpSpPr>
          <a:xfrm>
            <a:off x="357120" y="1714680"/>
            <a:ext cx="8072640" cy="4000320"/>
            <a:chOff x="357120" y="1714680"/>
            <a:chExt cx="8072640" cy="4000320"/>
          </a:xfrm>
        </p:grpSpPr>
        <p:sp>
          <p:nvSpPr>
            <p:cNvPr id="478" name="フローチャート : 代替処理 4"/>
            <p:cNvSpPr/>
            <p:nvPr/>
          </p:nvSpPr>
          <p:spPr>
            <a:xfrm>
              <a:off x="357120" y="1714680"/>
              <a:ext cx="8072640" cy="4000320"/>
            </a:xfrm>
            <a:prstGeom prst="flowChartAlternateProcess">
              <a:avLst/>
            </a:prstGeom>
            <a:solidFill>
              <a:srgbClr val="fe8637"/>
            </a:solidFill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79" name="テキスト ボックス 5"/>
            <p:cNvSpPr/>
            <p:nvPr/>
          </p:nvSpPr>
          <p:spPr>
            <a:xfrm>
              <a:off x="714240" y="2201040"/>
              <a:ext cx="7429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5400" spc="-1" strike="noStrike">
                  <a:solidFill>
                    <a:srgbClr val="000000"/>
                  </a:solidFill>
                  <a:latin typeface="Century Schoolbook"/>
                </a:rPr>
                <a:t>テスターによる購買をより効果的に促進するにはどうすればよいだろうか？</a:t>
              </a:r>
              <a:endParaRPr b="0" lang="en-US" sz="5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480" name="Picture 13" descr="C:\Program Files\Microsoft Office\Media\CntCD1\Animated\j0236531.gif"/>
          <p:cNvPicPr/>
          <p:nvPr/>
        </p:nvPicPr>
        <p:blipFill>
          <a:blip r:embed="rId1"/>
          <a:stretch/>
        </p:blipFill>
        <p:spPr>
          <a:xfrm>
            <a:off x="6215040" y="4643280"/>
            <a:ext cx="2021040" cy="2214720"/>
          </a:xfrm>
          <a:prstGeom prst="rect">
            <a:avLst/>
          </a:prstGeom>
          <a:ln w="0">
            <a:noFill/>
          </a:ln>
        </p:spPr>
      </p:pic>
      <p:sp>
        <p:nvSpPr>
          <p:cNvPr id="481" name="スライド番号プレースホルダ 10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461B-C2BE-481C-9E93-AA307D1D6D5F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フローチャート: 処理 65"/>
          <p:cNvSpPr/>
          <p:nvPr/>
        </p:nvSpPr>
        <p:spPr>
          <a:xfrm>
            <a:off x="7500960" y="4786200"/>
            <a:ext cx="1214280" cy="185760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フローチャート: 処理 64"/>
          <p:cNvSpPr/>
          <p:nvPr/>
        </p:nvSpPr>
        <p:spPr>
          <a:xfrm>
            <a:off x="6072120" y="4786200"/>
            <a:ext cx="1214640" cy="185760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フローチャート: 処理 60"/>
          <p:cNvSpPr/>
          <p:nvPr/>
        </p:nvSpPr>
        <p:spPr>
          <a:xfrm>
            <a:off x="4500720" y="4786200"/>
            <a:ext cx="1214280" cy="185760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フローチャート: 処理 58"/>
          <p:cNvSpPr/>
          <p:nvPr/>
        </p:nvSpPr>
        <p:spPr>
          <a:xfrm>
            <a:off x="3000240" y="4786200"/>
            <a:ext cx="1214640" cy="185760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フローチャート: 処理 57"/>
          <p:cNvSpPr/>
          <p:nvPr/>
        </p:nvSpPr>
        <p:spPr>
          <a:xfrm>
            <a:off x="1500120" y="4786200"/>
            <a:ext cx="1214640" cy="185760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フローチャート: 処理 56"/>
          <p:cNvSpPr/>
          <p:nvPr/>
        </p:nvSpPr>
        <p:spPr>
          <a:xfrm>
            <a:off x="0" y="4786200"/>
            <a:ext cx="1214280" cy="185760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74674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Century Schoolbook"/>
              </a:rPr>
              <a:t>消費者意思決定モデル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テキスト ボックス 8"/>
          <p:cNvSpPr/>
          <p:nvPr/>
        </p:nvSpPr>
        <p:spPr>
          <a:xfrm>
            <a:off x="5000760" y="407196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Howard &amp; Sheth,1969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テキスト ボックス 16"/>
          <p:cNvSpPr/>
          <p:nvPr/>
        </p:nvSpPr>
        <p:spPr>
          <a:xfrm>
            <a:off x="3286080" y="121428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ard &amp; Sheth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モデル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91" name="グループ化 29"/>
          <p:cNvGrpSpPr/>
          <p:nvPr/>
        </p:nvGrpSpPr>
        <p:grpSpPr>
          <a:xfrm>
            <a:off x="0" y="1714680"/>
            <a:ext cx="8786880" cy="2214360"/>
            <a:chOff x="0" y="1714680"/>
            <a:chExt cx="8786880" cy="2214360"/>
          </a:xfrm>
        </p:grpSpPr>
        <p:sp>
          <p:nvSpPr>
            <p:cNvPr id="492" name="フローチャート: 処理 66"/>
            <p:cNvSpPr/>
            <p:nvPr/>
          </p:nvSpPr>
          <p:spPr>
            <a:xfrm>
              <a:off x="0" y="1928880"/>
              <a:ext cx="1214280" cy="1857240"/>
            </a:xfrm>
            <a:prstGeom prst="flowChartProcess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93" name="テキスト ボックス 3"/>
            <p:cNvSpPr/>
            <p:nvPr/>
          </p:nvSpPr>
          <p:spPr>
            <a:xfrm>
              <a:off x="0" y="2428920"/>
              <a:ext cx="121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entury Schoolbook"/>
                </a:rPr>
                <a:t>刺激の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entury Schoolbook"/>
                </a:rPr>
                <a:t>多義性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grpSp>
          <p:nvGrpSpPr>
            <p:cNvPr id="494" name="グループ化 28"/>
            <p:cNvGrpSpPr/>
            <p:nvPr/>
          </p:nvGrpSpPr>
          <p:grpSpPr>
            <a:xfrm>
              <a:off x="1214280" y="1714680"/>
              <a:ext cx="7572600" cy="2214360"/>
              <a:chOff x="1214280" y="1714680"/>
              <a:chExt cx="7572600" cy="2214360"/>
            </a:xfrm>
          </p:grpSpPr>
          <p:sp>
            <p:nvSpPr>
              <p:cNvPr id="495" name="フローチャート: 処理 27"/>
              <p:cNvSpPr/>
              <p:nvPr/>
            </p:nvSpPr>
            <p:spPr>
              <a:xfrm>
                <a:off x="7572600" y="1928880"/>
                <a:ext cx="1214280" cy="1857240"/>
              </a:xfrm>
              <a:prstGeom prst="flowChartProcess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496" name="フローチャート: 処理 22"/>
              <p:cNvSpPr/>
              <p:nvPr/>
            </p:nvSpPr>
            <p:spPr>
              <a:xfrm>
                <a:off x="1499760" y="1928880"/>
                <a:ext cx="1214280" cy="1857240"/>
              </a:xfrm>
              <a:prstGeom prst="flowChartProcess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497" name="フローチャート: 処理 23"/>
              <p:cNvSpPr/>
              <p:nvPr/>
            </p:nvSpPr>
            <p:spPr>
              <a:xfrm>
                <a:off x="6072120" y="1928880"/>
                <a:ext cx="1214280" cy="1857240"/>
              </a:xfrm>
              <a:prstGeom prst="flowChartProcess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498" name="フローチャート: 処理 24"/>
              <p:cNvSpPr/>
              <p:nvPr/>
            </p:nvSpPr>
            <p:spPr>
              <a:xfrm>
                <a:off x="3000240" y="1928880"/>
                <a:ext cx="1214280" cy="1857240"/>
              </a:xfrm>
              <a:prstGeom prst="flowChartProcess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499" name="フローチャート: 処理 25"/>
              <p:cNvSpPr/>
              <p:nvPr/>
            </p:nvSpPr>
            <p:spPr>
              <a:xfrm>
                <a:off x="4500360" y="3000600"/>
                <a:ext cx="1214280" cy="928440"/>
              </a:xfrm>
              <a:prstGeom prst="flowChartProcess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500" name="テキスト ボックス 5"/>
              <p:cNvSpPr/>
              <p:nvPr/>
            </p:nvSpPr>
            <p:spPr>
              <a:xfrm>
                <a:off x="7572600" y="2571840"/>
                <a:ext cx="12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Century Schoolbook"/>
                  </a:rPr>
                  <a:t>意図</a:t>
                </a:r>
                <a:endParaRPr b="0" lang="en-US" sz="24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501" name="テキスト ボックス 4"/>
              <p:cNvSpPr/>
              <p:nvPr/>
            </p:nvSpPr>
            <p:spPr>
              <a:xfrm>
                <a:off x="6072120" y="2571840"/>
                <a:ext cx="12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Century Schoolbook"/>
                  </a:rPr>
                  <a:t>態度</a:t>
                </a:r>
                <a:endParaRPr b="0" lang="en-US" sz="24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502" name="テキスト ボックス 17"/>
              <p:cNvSpPr/>
              <p:nvPr/>
            </p:nvSpPr>
            <p:spPr>
              <a:xfrm>
                <a:off x="1499760" y="2571840"/>
                <a:ext cx="12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Century Schoolbook"/>
                  </a:rPr>
                  <a:t>注意</a:t>
                </a:r>
                <a:endParaRPr b="0" lang="en-US" sz="24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503" name="テキスト ボックス 18"/>
              <p:cNvSpPr/>
              <p:nvPr/>
            </p:nvSpPr>
            <p:spPr>
              <a:xfrm>
                <a:off x="3000240" y="2571840"/>
                <a:ext cx="1214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Century Schoolbook"/>
                  </a:rPr>
                  <a:t>知覚</a:t>
                </a:r>
                <a:endParaRPr b="0" lang="en-US" sz="2400" spc="-1" strike="noStrike">
                  <a:solidFill>
                    <a:srgbClr val="000000"/>
                  </a:solidFill>
                  <a:latin typeface="Century Schoolbook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Century Schoolbook"/>
                  </a:rPr>
                  <a:t>偏向</a:t>
                </a:r>
                <a:endParaRPr b="0" lang="en-US" sz="24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504" name="テキスト ボックス 20"/>
              <p:cNvSpPr/>
              <p:nvPr/>
            </p:nvSpPr>
            <p:spPr>
              <a:xfrm>
                <a:off x="4500360" y="3071880"/>
                <a:ext cx="1214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Century Schoolbook"/>
                  </a:rPr>
                  <a:t>選択</a:t>
                </a:r>
                <a:endParaRPr b="0" lang="en-US" sz="2400" spc="-1" strike="noStrike">
                  <a:solidFill>
                    <a:srgbClr val="000000"/>
                  </a:solidFill>
                  <a:latin typeface="Century Schoolbook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Century Schoolbook"/>
                  </a:rPr>
                  <a:t>基準</a:t>
                </a:r>
                <a:endParaRPr b="0" lang="en-US" sz="24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cxnSp>
            <p:nvCxnSpPr>
              <p:cNvPr id="505" name="直線矢印コネクタ 34"/>
              <p:cNvCxnSpPr>
                <a:stCxn id="493" idx="3"/>
              </p:cNvCxnSpPr>
              <p:nvPr/>
            </p:nvCxnSpPr>
            <p:spPr>
              <a:xfrm>
                <a:off x="1214280" y="2844360"/>
                <a:ext cx="429120" cy="1368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06" name="直線矢印コネクタ 36"/>
              <p:cNvCxnSpPr>
                <a:stCxn id="502" idx="3"/>
              </p:cNvCxnSpPr>
              <p:nvPr/>
            </p:nvCxnSpPr>
            <p:spPr>
              <a:xfrm flipV="1">
                <a:off x="2714400" y="2785320"/>
                <a:ext cx="429120" cy="1692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07" name="直線矢印コネクタ 45"/>
              <p:cNvCxnSpPr>
                <a:stCxn id="501" idx="3"/>
              </p:cNvCxnSpPr>
              <p:nvPr/>
            </p:nvCxnSpPr>
            <p:spPr>
              <a:xfrm flipV="1">
                <a:off x="7286760" y="2785320"/>
                <a:ext cx="429120" cy="1692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508" name="フローチャート: 処理 50"/>
              <p:cNvSpPr/>
              <p:nvPr/>
            </p:nvSpPr>
            <p:spPr>
              <a:xfrm>
                <a:off x="4500360" y="1714680"/>
                <a:ext cx="1214280" cy="928440"/>
              </a:xfrm>
              <a:prstGeom prst="flowChartProcess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509" name="テキスト ボックス 53"/>
              <p:cNvSpPr/>
              <p:nvPr/>
            </p:nvSpPr>
            <p:spPr>
              <a:xfrm>
                <a:off x="4500360" y="1785960"/>
                <a:ext cx="1214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Century Schoolbook"/>
                  </a:rPr>
                  <a:t>ブランド</a:t>
                </a:r>
                <a:endParaRPr b="0" lang="en-US" sz="2400" spc="-1" strike="noStrike">
                  <a:solidFill>
                    <a:srgbClr val="000000"/>
                  </a:solidFill>
                  <a:latin typeface="Century Schoolbook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Century Schoolbook"/>
                  </a:rPr>
                  <a:t>理解</a:t>
                </a:r>
                <a:endParaRPr b="0" lang="en-US" sz="24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cxnSp>
            <p:nvCxnSpPr>
              <p:cNvPr id="510" name="直線矢印コネクタ 44"/>
              <p:cNvCxnSpPr/>
              <p:nvPr/>
            </p:nvCxnSpPr>
            <p:spPr>
              <a:xfrm>
                <a:off x="4214520" y="2143080"/>
                <a:ext cx="429120" cy="216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11" name="直線矢印コネクタ 59"/>
              <p:cNvCxnSpPr/>
              <p:nvPr/>
            </p:nvCxnSpPr>
            <p:spPr>
              <a:xfrm>
                <a:off x="4214520" y="3357720"/>
                <a:ext cx="429120" cy="216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12" name="直線矢印コネクタ 61"/>
              <p:cNvCxnSpPr/>
              <p:nvPr/>
            </p:nvCxnSpPr>
            <p:spPr>
              <a:xfrm>
                <a:off x="5715000" y="2143080"/>
                <a:ext cx="429120" cy="216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13" name="直線矢印コネクタ 62"/>
              <p:cNvCxnSpPr/>
              <p:nvPr/>
            </p:nvCxnSpPr>
            <p:spPr>
              <a:xfrm>
                <a:off x="5715000" y="3357720"/>
                <a:ext cx="429120" cy="216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514" name="右矢印 63"/>
              <p:cNvSpPr/>
              <p:nvPr/>
            </p:nvSpPr>
            <p:spPr>
              <a:xfrm>
                <a:off x="7215480" y="2500200"/>
                <a:ext cx="571320" cy="642960"/>
              </a:xfrm>
              <a:prstGeom prst="rightArrow">
                <a:avLst>
                  <a:gd name="adj1" fmla="val 42241"/>
                  <a:gd name="adj2" fmla="val 50000"/>
                </a:avLst>
              </a:prstGeom>
              <a:solidFill>
                <a:srgbClr val="e4e5e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515" name="テキスト ボックス 48"/>
          <p:cNvSpPr/>
          <p:nvPr/>
        </p:nvSpPr>
        <p:spPr>
          <a:xfrm>
            <a:off x="0" y="507204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Schoolbook"/>
              </a:rPr>
              <a:t>棚の前を通りかか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テキスト ボックス 49"/>
          <p:cNvSpPr/>
          <p:nvPr/>
        </p:nvSpPr>
        <p:spPr>
          <a:xfrm>
            <a:off x="1500120" y="5143680"/>
            <a:ext cx="12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Schoolbook"/>
              </a:rPr>
              <a:t>商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Schoolbook"/>
              </a:rPr>
              <a:t>を認識し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7" name="テキスト ボックス 51"/>
          <p:cNvSpPr/>
          <p:nvPr/>
        </p:nvSpPr>
        <p:spPr>
          <a:xfrm>
            <a:off x="3000240" y="5000760"/>
            <a:ext cx="12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Schoolbook"/>
              </a:rPr>
              <a:t>興味を持って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Schoolbook"/>
              </a:rPr>
              <a:t>立ち止まり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テキスト ボックス 52"/>
          <p:cNvSpPr/>
          <p:nvPr/>
        </p:nvSpPr>
        <p:spPr>
          <a:xfrm>
            <a:off x="4500720" y="51436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Schoolbook"/>
              </a:rPr>
              <a:t>商品を手に取り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テキスト ボックス 54"/>
          <p:cNvSpPr/>
          <p:nvPr/>
        </p:nvSpPr>
        <p:spPr>
          <a:xfrm>
            <a:off x="6072120" y="52862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Schoolbook"/>
              </a:rPr>
              <a:t>テスタ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テキスト ボックス 55"/>
          <p:cNvSpPr/>
          <p:nvPr/>
        </p:nvSpPr>
        <p:spPr>
          <a:xfrm>
            <a:off x="7572240" y="5429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Schoolbook"/>
              </a:rPr>
              <a:t>購入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521" name="直線矢印コネクタ 68"/>
          <p:cNvCxnSpPr>
            <a:stCxn id="487" idx="3"/>
          </p:cNvCxnSpPr>
          <p:nvPr/>
        </p:nvCxnSpPr>
        <p:spPr>
          <a:xfrm>
            <a:off x="1213920" y="5715000"/>
            <a:ext cx="4294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直線矢印コネクタ 70"/>
          <p:cNvCxnSpPr/>
          <p:nvPr/>
        </p:nvCxnSpPr>
        <p:spPr>
          <a:xfrm>
            <a:off x="2714760" y="5715000"/>
            <a:ext cx="429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直線矢印コネクタ 71"/>
          <p:cNvCxnSpPr/>
          <p:nvPr/>
        </p:nvCxnSpPr>
        <p:spPr>
          <a:xfrm>
            <a:off x="4214880" y="5715000"/>
            <a:ext cx="429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直線矢印コネクタ 72"/>
          <p:cNvCxnSpPr/>
          <p:nvPr/>
        </p:nvCxnSpPr>
        <p:spPr>
          <a:xfrm>
            <a:off x="5714640" y="5715000"/>
            <a:ext cx="4294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直線矢印コネクタ 73"/>
          <p:cNvCxnSpPr/>
          <p:nvPr/>
        </p:nvCxnSpPr>
        <p:spPr>
          <a:xfrm>
            <a:off x="7286760" y="5715000"/>
            <a:ext cx="429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6" name="テキスト ボックス 74"/>
          <p:cNvSpPr/>
          <p:nvPr/>
        </p:nvSpPr>
        <p:spPr>
          <a:xfrm>
            <a:off x="214200" y="42148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テスターでの購買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円/楕円 75"/>
          <p:cNvSpPr/>
          <p:nvPr/>
        </p:nvSpPr>
        <p:spPr>
          <a:xfrm>
            <a:off x="5786280" y="1000080"/>
            <a:ext cx="3214800" cy="5715000"/>
          </a:xfrm>
          <a:prstGeom prst="ellipse">
            <a:avLst/>
          </a:prstGeom>
          <a:noFill/>
          <a:ln w="763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スライド番号プレースホルダ 7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9F51-D542-46A0-8D30-C7D9750F5261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角丸四角形 5"/>
          <p:cNvSpPr/>
          <p:nvPr/>
        </p:nvSpPr>
        <p:spPr>
          <a:xfrm>
            <a:off x="357120" y="1428840"/>
            <a:ext cx="7858080" cy="46432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Century Schoolbook"/>
              </a:rPr>
              <a:t>研究目的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1" name="テキスト ボックス 4"/>
          <p:cNvSpPr/>
          <p:nvPr/>
        </p:nvSpPr>
        <p:spPr>
          <a:xfrm>
            <a:off x="857160" y="2500200"/>
            <a:ext cx="692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Century Schoolbook"/>
              </a:rPr>
              <a:t>テスターが購買行動意図に与える影響を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Century Schoolbook"/>
              </a:rPr>
              <a:t>明らかにする。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32" name="Picture 23" descr="C:\Program Files\Microsoft Office\Media\CntCD1\Animated\j0309736.gif"/>
          <p:cNvPicPr/>
          <p:nvPr/>
        </p:nvPicPr>
        <p:blipFill>
          <a:blip r:embed="rId1"/>
          <a:stretch/>
        </p:blipFill>
        <p:spPr>
          <a:xfrm>
            <a:off x="214200" y="457200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533" name="スライド番号プレースホルダ 9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D466-3C6A-403D-ACE7-F3CD3FEBDB2F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正方形/長方形 11"/>
          <p:cNvSpPr/>
          <p:nvPr/>
        </p:nvSpPr>
        <p:spPr>
          <a:xfrm>
            <a:off x="6643800" y="3000240"/>
            <a:ext cx="207144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正方形/長方形 10"/>
          <p:cNvSpPr/>
          <p:nvPr/>
        </p:nvSpPr>
        <p:spPr>
          <a:xfrm>
            <a:off x="4214880" y="3000240"/>
            <a:ext cx="192888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正方形/長方形 9"/>
          <p:cNvSpPr/>
          <p:nvPr/>
        </p:nvSpPr>
        <p:spPr>
          <a:xfrm>
            <a:off x="357120" y="3929040"/>
            <a:ext cx="3071880" cy="142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正方形/長方形 8"/>
          <p:cNvSpPr/>
          <p:nvPr/>
        </p:nvSpPr>
        <p:spPr>
          <a:xfrm>
            <a:off x="357120" y="2214720"/>
            <a:ext cx="3000600" cy="1000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Century Schoolbook"/>
              </a:rPr>
              <a:t>購買意志モデル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テキスト ボックス 4"/>
          <p:cNvSpPr/>
          <p:nvPr/>
        </p:nvSpPr>
        <p:spPr>
          <a:xfrm>
            <a:off x="357120" y="221472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 Schoolbook"/>
              </a:rPr>
              <a:t>その商品の購買への態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テキスト ボックス 5"/>
          <p:cNvSpPr/>
          <p:nvPr/>
        </p:nvSpPr>
        <p:spPr>
          <a:xfrm>
            <a:off x="357120" y="400068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 Schoolbook"/>
              </a:rPr>
              <a:t>その商品の購買についての主観的な社会規範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テキスト ボックス 6"/>
          <p:cNvSpPr/>
          <p:nvPr/>
        </p:nvSpPr>
        <p:spPr>
          <a:xfrm>
            <a:off x="4143240" y="31431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 Schoolbook"/>
              </a:rPr>
              <a:t>購買行動意図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テキスト ボックス 7"/>
          <p:cNvSpPr/>
          <p:nvPr/>
        </p:nvSpPr>
        <p:spPr>
          <a:xfrm>
            <a:off x="664380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 Schoolbook"/>
              </a:rPr>
              <a:t>現実の購買行動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543" name="直線矢印コネクタ 13"/>
          <p:cNvCxnSpPr>
            <a:stCxn id="539" idx="3"/>
            <a:endCxn id="541" idx="1"/>
          </p:cNvCxnSpPr>
          <p:nvPr/>
        </p:nvCxnSpPr>
        <p:spPr>
          <a:xfrm>
            <a:off x="3357720" y="2692440"/>
            <a:ext cx="786240" cy="929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直線矢印コネクタ 15"/>
          <p:cNvCxnSpPr>
            <a:stCxn id="540" idx="3"/>
            <a:endCxn id="541" idx="1"/>
          </p:cNvCxnSpPr>
          <p:nvPr/>
        </p:nvCxnSpPr>
        <p:spPr>
          <a:xfrm flipV="1">
            <a:off x="3429000" y="3620880"/>
            <a:ext cx="714960" cy="1072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直線矢印コネクタ 19"/>
          <p:cNvCxnSpPr/>
          <p:nvPr/>
        </p:nvCxnSpPr>
        <p:spPr>
          <a:xfrm>
            <a:off x="6000480" y="3499920"/>
            <a:ext cx="78660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6" name="Picture 11" descr="C:\Program Files\Microsoft Office\Media\CntCD1\Animated\j0297020.gif"/>
          <p:cNvPicPr/>
          <p:nvPr/>
        </p:nvPicPr>
        <p:blipFill>
          <a:blip r:embed="rId1"/>
          <a:stretch/>
        </p:blipFill>
        <p:spPr>
          <a:xfrm rot="816600">
            <a:off x="5797440" y="4789440"/>
            <a:ext cx="1471680" cy="1252440"/>
          </a:xfrm>
          <a:prstGeom prst="rect">
            <a:avLst/>
          </a:prstGeom>
          <a:ln w="0">
            <a:noFill/>
          </a:ln>
        </p:spPr>
      </p:pic>
      <p:sp>
        <p:nvSpPr>
          <p:cNvPr id="547" name="スライド番号プレースホルダ 1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FE7C-CBB1-4FBB-B32B-A5AE2414F4FA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9900"/>
                </a:solidFill>
                <a:latin typeface="Century Schoolbook"/>
              </a:rPr>
              <a:t>購入し、利用することの態度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549" name="グループ化 17"/>
          <p:cNvGrpSpPr/>
          <p:nvPr/>
        </p:nvGrpSpPr>
        <p:grpSpPr>
          <a:xfrm>
            <a:off x="928800" y="2643120"/>
            <a:ext cx="7286400" cy="2071800"/>
            <a:chOff x="928800" y="2643120"/>
            <a:chExt cx="7286400" cy="2071800"/>
          </a:xfrm>
        </p:grpSpPr>
        <p:grpSp>
          <p:nvGrpSpPr>
            <p:cNvPr id="550" name="角丸四角形 9"/>
            <p:cNvGrpSpPr/>
            <p:nvPr/>
          </p:nvGrpSpPr>
          <p:grpSpPr>
            <a:xfrm>
              <a:off x="928800" y="2643120"/>
              <a:ext cx="7286400" cy="2071800"/>
              <a:chOff x="928800" y="2643120"/>
              <a:chExt cx="7286400" cy="2071800"/>
            </a:xfrm>
          </p:grpSpPr>
          <p:pic>
            <p:nvPicPr>
              <p:cNvPr id="551" name="角丸四角形 9" descr=""/>
              <p:cNvPicPr/>
              <p:nvPr/>
            </p:nvPicPr>
            <p:blipFill>
              <a:blip r:embed="rId1"/>
              <a:stretch/>
            </p:blipFill>
            <p:spPr>
              <a:xfrm>
                <a:off x="928800" y="2643120"/>
                <a:ext cx="7286400" cy="207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1152000" y="2845080"/>
                <a:ext cx="6840000" cy="166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553" name="テキスト ボックス 4"/>
            <p:cNvSpPr/>
            <p:nvPr/>
          </p:nvSpPr>
          <p:spPr>
            <a:xfrm>
              <a:off x="1192320" y="2818800"/>
              <a:ext cx="689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entury Schoolbook"/>
                </a:rPr>
                <a:t>購買行動に結び付く態度は商品そのものへの態度ではなく、商品を利用した時の態度でなければならない。</a:t>
              </a:r>
              <a:endParaRPr b="0" lang="en-US" sz="3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54" name="テキスト ボックス 15"/>
            <p:cNvSpPr/>
            <p:nvPr/>
          </p:nvSpPr>
          <p:spPr>
            <a:xfrm>
              <a:off x="5951520" y="4221000"/>
              <a:ext cx="179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 Schoolbook"/>
                </a:rPr>
                <a:t>（中谷内　１９９７）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55" name="グループ化 20"/>
          <p:cNvGrpSpPr/>
          <p:nvPr/>
        </p:nvGrpSpPr>
        <p:grpSpPr>
          <a:xfrm>
            <a:off x="-428760" y="2714760"/>
            <a:ext cx="10072800" cy="3857400"/>
            <a:chOff x="-428760" y="2714760"/>
            <a:chExt cx="10072800" cy="3857400"/>
          </a:xfrm>
        </p:grpSpPr>
        <p:sp>
          <p:nvSpPr>
            <p:cNvPr id="556" name="爆発 1 19"/>
            <p:cNvSpPr/>
            <p:nvPr/>
          </p:nvSpPr>
          <p:spPr>
            <a:xfrm>
              <a:off x="-428760" y="2714760"/>
              <a:ext cx="10072800" cy="3857400"/>
            </a:xfrm>
            <a:prstGeom prst="irregularSeal1">
              <a:avLst/>
            </a:prstGeom>
            <a:solidFill>
              <a:srgbClr val="fff39d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57" name="テキスト ボックス 18"/>
            <p:cNvSpPr/>
            <p:nvPr/>
          </p:nvSpPr>
          <p:spPr>
            <a:xfrm>
              <a:off x="1428480" y="3286080"/>
              <a:ext cx="7358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Century Schoolbook"/>
                </a:rPr>
                <a:t>プロモーションにおいても重要である。</a:t>
              </a:r>
              <a:endParaRPr b="0" lang="en-US" sz="5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58" name="スライド番号プレースホルダ 2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5A12-C805-4C6C-9179-D57486216ECB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角丸四角形 4"/>
          <p:cNvSpPr/>
          <p:nvPr/>
        </p:nvSpPr>
        <p:spPr>
          <a:xfrm>
            <a:off x="285840" y="1500120"/>
            <a:ext cx="8429400" cy="42148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Century Schoolbook"/>
              </a:rPr>
              <a:t>仮説の導出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1" name="テキスト ボックス 3"/>
          <p:cNvSpPr/>
          <p:nvPr/>
        </p:nvSpPr>
        <p:spPr>
          <a:xfrm>
            <a:off x="285840" y="1857240"/>
            <a:ext cx="84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Century Schoolbook"/>
              </a:rPr>
              <a:t>商品そのものに対して訴求したテスターより、商品を購入し、利用した状態を想起できるようなテスターの方が、購買意図に結びつくのではないだろうか？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スライド番号プレースホルダ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D94A-0EE2-4043-ADD7-F9DA3D044F7A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7467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Century Schoolbook"/>
              </a:rPr>
              <a:t>参考文献・資料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28400" y="1214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アルジュン・チョードリー，恩蔵直人，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２００７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『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感情マーケティング－感情と理性の消費者行動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』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，千倉書房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大槻博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１９９１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『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店頭マーケティングの実際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』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，日本経済新聞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齊藤勇（１９９６），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『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認知心理学重要研究集２　記憶認知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』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，誠信書房，Ｐ１９０－１９４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杉本徹雄（１９９７），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『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消費者理解のための心理学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』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，福村出版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田島義博，青木幸弘，（１９８９），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『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店頭研究と消費者行動分析－店舗内購買行動分析とその周辺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』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，誠文堂新光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井上淳子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２００８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、「消費者の目標と購買アイテムのカテゴリー～計画購買と非計画購買の境界～」，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『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立正経営論集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』</a:t>
            </a: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，第４１巻，第１号，ＰＰ１５１－１７３，立正大学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日本流通新聞，２００３年７月２９日，２００９年１月２６日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アイシェア　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release.center.jp/2009/04/1401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スライド番号プレースホルダ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FE63-C0FD-421F-9DF9-5C3EDEA24C4C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2143080"/>
            <a:ext cx="9144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ff0000"/>
                </a:solidFill>
                <a:latin typeface="Century Schoolbook"/>
              </a:rPr>
              <a:t>ご静聴</a:t>
            </a:r>
            <a:br>
              <a:rPr sz="7200"/>
            </a:br>
            <a:r>
              <a:rPr b="1" lang="ja-JP" sz="7200" spc="-1" strike="noStrike">
                <a:solidFill>
                  <a:srgbClr val="ff0000"/>
                </a:solidFill>
                <a:latin typeface="Century Schoolbook"/>
              </a:rPr>
              <a:t>ありがとうございました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67" name="Picture 2" descr="C:\Program Files\Microsoft Office\MEDIA\CAGCAT10\j0305493.wmf"/>
          <p:cNvPicPr/>
          <p:nvPr/>
        </p:nvPicPr>
        <p:blipFill>
          <a:blip r:embed="rId1"/>
          <a:stretch/>
        </p:blipFill>
        <p:spPr>
          <a:xfrm>
            <a:off x="500040" y="1143000"/>
            <a:ext cx="1809720" cy="1486080"/>
          </a:xfrm>
          <a:prstGeom prst="rect">
            <a:avLst/>
          </a:prstGeom>
          <a:ln w="0">
            <a:noFill/>
          </a:ln>
        </p:spPr>
      </p:pic>
      <p:sp>
        <p:nvSpPr>
          <p:cNvPr id="568" name="スライド番号プレースホルダ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A5C8-CA99-4E25-A2D1-1EC9F5320AAF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e8637"/>
                </a:solidFill>
                <a:latin typeface="Century Schoolbook"/>
              </a:rPr>
              <a:t>研究の流れ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テキスト ボックス 10"/>
          <p:cNvSpPr/>
          <p:nvPr/>
        </p:nvSpPr>
        <p:spPr>
          <a:xfrm>
            <a:off x="785880" y="1928880"/>
            <a:ext cx="714384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entury Schoolbook"/>
              </a:rPr>
              <a:t>問題意識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entury Schoolbook"/>
              </a:rPr>
              <a:t>研究目的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entury Schoolbook"/>
              </a:rPr>
              <a:t>仮説の導出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スライド番号プレースホルダ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B415-04B8-465F-B279-307810651A9B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e8637"/>
                </a:solidFill>
                <a:latin typeface="Century Schoolbook"/>
              </a:rPr>
              <a:t>店舗内刺激の例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2" descr="http://blog.so-net.ne.jp/_images/blog/tsukasa-washio/1541432.jpg"/>
          <p:cNvPicPr/>
          <p:nvPr/>
        </p:nvPicPr>
        <p:blipFill>
          <a:blip r:embed="rId1"/>
          <a:stretch/>
        </p:blipFill>
        <p:spPr>
          <a:xfrm>
            <a:off x="642960" y="4429080"/>
            <a:ext cx="1719360" cy="1714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http://bp1.blogger.com/_BPOV0yUJQpE/SEuchMuAG1I/AAAAAAAABms/9K5kcdCs0tE/s400/冷やしキットカット.png"/>
          <p:cNvPicPr/>
          <p:nvPr/>
        </p:nvPicPr>
        <p:blipFill>
          <a:blip r:embed="rId2"/>
          <a:stretch/>
        </p:blipFill>
        <p:spPr>
          <a:xfrm>
            <a:off x="4929120" y="1857240"/>
            <a:ext cx="1900440" cy="17859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http://blog.pop-school.com/images/P1000044.jpg"/>
          <p:cNvPicPr/>
          <p:nvPr/>
        </p:nvPicPr>
        <p:blipFill>
          <a:blip r:embed="rId3"/>
          <a:stretch/>
        </p:blipFill>
        <p:spPr>
          <a:xfrm>
            <a:off x="3214800" y="4429080"/>
            <a:ext cx="1650960" cy="1714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http://image.blog.livedoor.jp/n_popstar/imgs/4/0/40ea1861.jpg"/>
          <p:cNvPicPr/>
          <p:nvPr/>
        </p:nvPicPr>
        <p:blipFill>
          <a:blip r:embed="rId4"/>
          <a:stretch/>
        </p:blipFill>
        <p:spPr>
          <a:xfrm>
            <a:off x="5857920" y="4429080"/>
            <a:ext cx="1751040" cy="1714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" descr="34007795_2475086777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28840" y="1857240"/>
            <a:ext cx="178596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69" name="グループ化 20"/>
          <p:cNvGrpSpPr/>
          <p:nvPr/>
        </p:nvGrpSpPr>
        <p:grpSpPr>
          <a:xfrm>
            <a:off x="1428840" y="3643200"/>
            <a:ext cx="1785960" cy="307080"/>
            <a:chOff x="1428840" y="3643200"/>
            <a:chExt cx="1785960" cy="307080"/>
          </a:xfrm>
        </p:grpSpPr>
        <p:sp>
          <p:nvSpPr>
            <p:cNvPr id="370" name="角丸四角形 19"/>
            <p:cNvSpPr/>
            <p:nvPr/>
          </p:nvSpPr>
          <p:spPr>
            <a:xfrm>
              <a:off x="1428840" y="3643200"/>
              <a:ext cx="1643400" cy="286200"/>
            </a:xfrm>
            <a:prstGeom prst="roundRect">
              <a:avLst>
                <a:gd name="adj" fmla="val 16667"/>
              </a:avLst>
            </a:prstGeom>
            <a:solidFill>
              <a:srgbClr val="fe8637"/>
            </a:solidFill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1" name="テキスト ボックス 14"/>
            <p:cNvSpPr/>
            <p:nvPr/>
          </p:nvSpPr>
          <p:spPr>
            <a:xfrm>
              <a:off x="1428840" y="3643200"/>
              <a:ext cx="178596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entury Schoolbook"/>
                </a:rPr>
                <a:t>　テスター（サンプル）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72" name="グループ化 23"/>
          <p:cNvGrpSpPr/>
          <p:nvPr/>
        </p:nvGrpSpPr>
        <p:grpSpPr>
          <a:xfrm>
            <a:off x="4929120" y="3643200"/>
            <a:ext cx="1857600" cy="366840"/>
            <a:chOff x="4929120" y="3643200"/>
            <a:chExt cx="1857600" cy="366840"/>
          </a:xfrm>
        </p:grpSpPr>
        <p:sp>
          <p:nvSpPr>
            <p:cNvPr id="373" name="テキスト ボックス 15"/>
            <p:cNvSpPr/>
            <p:nvPr/>
          </p:nvSpPr>
          <p:spPr>
            <a:xfrm>
              <a:off x="5357880" y="36432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entury Schoolbook"/>
                </a:rPr>
                <a:t>商品陳列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4" name="正方形/長方形 21"/>
            <p:cNvSpPr/>
            <p:nvPr/>
          </p:nvSpPr>
          <p:spPr>
            <a:xfrm>
              <a:off x="4929120" y="3643200"/>
              <a:ext cx="185760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5" name="テキスト ボックス 22"/>
            <p:cNvSpPr/>
            <p:nvPr/>
          </p:nvSpPr>
          <p:spPr>
            <a:xfrm>
              <a:off x="5000400" y="3664800"/>
              <a:ext cx="15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entury Schoolbook"/>
                </a:rPr>
                <a:t>　　　　商品陳列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76" name="グループ化 26"/>
          <p:cNvGrpSpPr/>
          <p:nvPr/>
        </p:nvGrpSpPr>
        <p:grpSpPr>
          <a:xfrm>
            <a:off x="642960" y="6143760"/>
            <a:ext cx="1714320" cy="307080"/>
            <a:chOff x="642960" y="6143760"/>
            <a:chExt cx="1714320" cy="307080"/>
          </a:xfrm>
        </p:grpSpPr>
        <p:sp>
          <p:nvSpPr>
            <p:cNvPr id="377" name="正方形/長方形 24"/>
            <p:cNvSpPr/>
            <p:nvPr/>
          </p:nvSpPr>
          <p:spPr>
            <a:xfrm>
              <a:off x="642960" y="6143760"/>
              <a:ext cx="171432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8" name="テキスト ボックス 25"/>
            <p:cNvSpPr/>
            <p:nvPr/>
          </p:nvSpPr>
          <p:spPr>
            <a:xfrm>
              <a:off x="714240" y="6143760"/>
              <a:ext cx="157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entury Schoolbook"/>
                </a:rPr>
                <a:t>店内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BGM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79" name="グループ化 30"/>
          <p:cNvGrpSpPr/>
          <p:nvPr/>
        </p:nvGrpSpPr>
        <p:grpSpPr>
          <a:xfrm>
            <a:off x="3214800" y="6143760"/>
            <a:ext cx="1643040" cy="307080"/>
            <a:chOff x="3214800" y="6143760"/>
            <a:chExt cx="1643040" cy="307080"/>
          </a:xfrm>
        </p:grpSpPr>
        <p:sp>
          <p:nvSpPr>
            <p:cNvPr id="380" name="正方形/長方形 28"/>
            <p:cNvSpPr/>
            <p:nvPr/>
          </p:nvSpPr>
          <p:spPr>
            <a:xfrm>
              <a:off x="3214800" y="6143760"/>
              <a:ext cx="164304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1" name="テキスト ボックス 29"/>
            <p:cNvSpPr/>
            <p:nvPr/>
          </p:nvSpPr>
          <p:spPr>
            <a:xfrm>
              <a:off x="3429000" y="61437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entury Schoolbook"/>
                </a:rPr>
                <a:t>特売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82" name="グループ化 33"/>
          <p:cNvGrpSpPr/>
          <p:nvPr/>
        </p:nvGrpSpPr>
        <p:grpSpPr>
          <a:xfrm>
            <a:off x="5857920" y="6143760"/>
            <a:ext cx="1714320" cy="307080"/>
            <a:chOff x="5857920" y="6143760"/>
            <a:chExt cx="1714320" cy="307080"/>
          </a:xfrm>
        </p:grpSpPr>
        <p:sp>
          <p:nvSpPr>
            <p:cNvPr id="383" name="正方形/長方形 31"/>
            <p:cNvSpPr/>
            <p:nvPr/>
          </p:nvSpPr>
          <p:spPr>
            <a:xfrm>
              <a:off x="5857920" y="6143760"/>
              <a:ext cx="171432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4" name="テキスト ボックス 32"/>
            <p:cNvSpPr/>
            <p:nvPr/>
          </p:nvSpPr>
          <p:spPr>
            <a:xfrm>
              <a:off x="6143400" y="61437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POP</a:t>
              </a:r>
              <a:r>
                <a:rPr b="0" lang="ja-JP" sz="1400" spc="-1" strike="noStrike">
                  <a:solidFill>
                    <a:srgbClr val="000000"/>
                  </a:solidFill>
                  <a:latin typeface="Century Schoolbook"/>
                </a:rPr>
                <a:t>広告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85" name="スライド番号プレースホルダ 2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AB2C-5821-4763-B9F6-B62CC04FFC0A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0010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e8637"/>
                </a:solidFill>
                <a:latin typeface="Century Schoolbook"/>
              </a:rPr>
              <a:t>店舗内購買行動の現状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コンテンツ プレースホルダ 2"/>
          <p:cNvSpPr/>
          <p:nvPr/>
        </p:nvSpPr>
        <p:spPr>
          <a:xfrm>
            <a:off x="214200" y="2000160"/>
            <a:ext cx="564372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0752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88" name="グループ化 20"/>
          <p:cNvGrpSpPr/>
          <p:nvPr/>
        </p:nvGrpSpPr>
        <p:grpSpPr>
          <a:xfrm>
            <a:off x="357120" y="1428840"/>
            <a:ext cx="8501040" cy="4848840"/>
            <a:chOff x="357120" y="1428840"/>
            <a:chExt cx="8501040" cy="4848840"/>
          </a:xfrm>
        </p:grpSpPr>
        <p:sp>
          <p:nvSpPr>
            <p:cNvPr id="389" name="テキスト ボックス 8"/>
            <p:cNvSpPr/>
            <p:nvPr/>
          </p:nvSpPr>
          <p:spPr>
            <a:xfrm>
              <a:off x="357120" y="1428840"/>
              <a:ext cx="8501040" cy="484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entury Schoolbook"/>
                </a:rPr>
                <a:t>計画購買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</a:rPr>
                <a:t>(11.0%)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entury Schoolbook"/>
                </a:rPr>
                <a:t>銘柄選択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</a:rPr>
                <a:t>(10.8%)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entury Schoolbook"/>
                </a:rPr>
                <a:t>銘柄代替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</a:rPr>
                <a:t>(  2.1%)                         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entury Schoolbook"/>
                </a:rPr>
                <a:t>想起購買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</a:rPr>
                <a:t>(27.8%)        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entury Schoolbook"/>
                </a:rPr>
                <a:t>関連購買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</a:rPr>
                <a:t>(  6.4%)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entury Schoolbook"/>
                </a:rPr>
                <a:t>条件購買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</a:rPr>
                <a:t>(26.8%)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entury Schoolbook"/>
                </a:rPr>
                <a:t>衝動購買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</a:rPr>
                <a:t>(15.3%)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0" name="テキスト ボックス 12"/>
            <p:cNvSpPr/>
            <p:nvPr/>
          </p:nvSpPr>
          <p:spPr>
            <a:xfrm>
              <a:off x="4255560" y="1847880"/>
              <a:ext cx="233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entury Schoolbook"/>
                </a:rPr>
                <a:t>店内刺激により誘導された部分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</a:rPr>
                <a:t>(12.9%)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1" name="フリーフォーム 13"/>
            <p:cNvSpPr/>
            <p:nvPr/>
          </p:nvSpPr>
          <p:spPr>
            <a:xfrm>
              <a:off x="3787920" y="3734640"/>
              <a:ext cx="467640" cy="212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2" name="テキスト ボックス 14"/>
            <p:cNvSpPr/>
            <p:nvPr/>
          </p:nvSpPr>
          <p:spPr>
            <a:xfrm>
              <a:off x="4255560" y="4154040"/>
              <a:ext cx="233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entury Schoolbook"/>
                </a:rPr>
                <a:t>店内刺激により誘発された部分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</a:rPr>
                <a:t>(76.1%)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3" name="右中かっこ 15"/>
            <p:cNvSpPr/>
            <p:nvPr/>
          </p:nvSpPr>
          <p:spPr>
            <a:xfrm>
              <a:off x="6594840" y="2546640"/>
              <a:ext cx="467640" cy="1937880"/>
            </a:xfrm>
            <a:custGeom>
              <a:avLst/>
              <a:gdLst>
                <a:gd name="textAreaLeft" fmla="*/ 0 w 467640"/>
                <a:gd name="textAreaRight" fmla="*/ 168840 w 467640"/>
                <a:gd name="textAreaTop" fmla="*/ 14400 h 1937880"/>
                <a:gd name="textAreaBottom" fmla="*/ 1923480 h 19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57"/>
                    <a:pt x="10800" y="514"/>
                  </a:cubicBezTo>
                  <a:lnTo>
                    <a:pt x="10800" y="9730"/>
                  </a:lnTo>
                  <a:cubicBezTo>
                    <a:pt x="10800" y="9987"/>
                    <a:pt x="16200" y="10244"/>
                    <a:pt x="21600" y="10244"/>
                  </a:cubicBezTo>
                  <a:cubicBezTo>
                    <a:pt x="16200" y="10244"/>
                    <a:pt x="10800" y="10501"/>
                    <a:pt x="10800" y="10758"/>
                  </a:cubicBezTo>
                  <a:lnTo>
                    <a:pt x="10800" y="21086"/>
                  </a:lnTo>
                  <a:cubicBezTo>
                    <a:pt x="10800" y="21343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4" name="右中かっこ 17"/>
            <p:cNvSpPr/>
            <p:nvPr/>
          </p:nvSpPr>
          <p:spPr>
            <a:xfrm>
              <a:off x="3787920" y="2057400"/>
              <a:ext cx="467640" cy="922680"/>
            </a:xfrm>
            <a:custGeom>
              <a:avLst/>
              <a:gdLst>
                <a:gd name="textAreaLeft" fmla="*/ 0 w 467640"/>
                <a:gd name="textAreaRight" fmla="*/ 168840 w 467640"/>
                <a:gd name="textAreaTop" fmla="*/ 14400 h 922680"/>
                <a:gd name="textAreaBottom" fmla="*/ 908280 h 92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40"/>
                    <a:pt x="10800" y="1080"/>
                  </a:cubicBezTo>
                  <a:lnTo>
                    <a:pt x="10800" y="9720"/>
                  </a:lnTo>
                  <a:cubicBezTo>
                    <a:pt x="10800" y="10260"/>
                    <a:pt x="16200" y="10800"/>
                    <a:pt x="21600" y="10800"/>
                  </a:cubicBezTo>
                  <a:cubicBezTo>
                    <a:pt x="16200" y="10800"/>
                    <a:pt x="10800" y="11340"/>
                    <a:pt x="10800" y="11880"/>
                  </a:cubicBezTo>
                  <a:lnTo>
                    <a:pt x="10800" y="20520"/>
                  </a:lnTo>
                  <a:cubicBezTo>
                    <a:pt x="10800" y="2106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5" name="テキスト ボックス 18"/>
            <p:cNvSpPr/>
            <p:nvPr/>
          </p:nvSpPr>
          <p:spPr>
            <a:xfrm>
              <a:off x="7140600" y="3105720"/>
              <a:ext cx="155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000" spc="-1" strike="noStrike" u="sng">
                  <a:solidFill>
                    <a:srgbClr val="000000"/>
                  </a:solidFill>
                  <a:uFillTx/>
                  <a:latin typeface="Century Schoolbook"/>
                </a:rPr>
                <a:t>８９％</a:t>
              </a:r>
              <a:endParaRPr b="0" lang="en-US" sz="4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396" name="グループ化 24" descr=""/>
          <p:cNvPicPr/>
          <p:nvPr/>
        </p:nvPicPr>
        <p:blipFill>
          <a:blip r:embed="rId1"/>
          <a:stretch/>
        </p:blipFill>
        <p:spPr>
          <a:xfrm>
            <a:off x="-165240" y="2193840"/>
            <a:ext cx="9176040" cy="3694320"/>
          </a:xfrm>
          <a:prstGeom prst="rect">
            <a:avLst/>
          </a:prstGeom>
          <a:ln w="0">
            <a:noFill/>
          </a:ln>
        </p:spPr>
      </p:pic>
      <p:sp>
        <p:nvSpPr>
          <p:cNvPr id="397" name="上矢印 20"/>
          <p:cNvSpPr/>
          <p:nvPr/>
        </p:nvSpPr>
        <p:spPr>
          <a:xfrm>
            <a:off x="7215120" y="3929040"/>
            <a:ext cx="571680" cy="571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テキスト ボックス 16"/>
          <p:cNvSpPr/>
          <p:nvPr/>
        </p:nvSpPr>
        <p:spPr>
          <a:xfrm>
            <a:off x="4572000" y="57862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（（財）流通経済研究所　１９８９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99" name="グループ化 26"/>
          <p:cNvGrpSpPr/>
          <p:nvPr/>
        </p:nvGrpSpPr>
        <p:grpSpPr>
          <a:xfrm>
            <a:off x="6215040" y="4572000"/>
            <a:ext cx="2928960" cy="500040"/>
            <a:chOff x="6215040" y="4572000"/>
            <a:chExt cx="2928960" cy="500040"/>
          </a:xfrm>
        </p:grpSpPr>
        <p:sp>
          <p:nvSpPr>
            <p:cNvPr id="400" name="円/楕円 24"/>
            <p:cNvSpPr/>
            <p:nvPr/>
          </p:nvSpPr>
          <p:spPr>
            <a:xfrm>
              <a:off x="6429240" y="4572000"/>
              <a:ext cx="2500560" cy="500040"/>
            </a:xfrm>
            <a:prstGeom prst="ellipse">
              <a:avLst/>
            </a:prstGeom>
            <a:solidFill>
              <a:srgbClr val="fe8637"/>
            </a:solidFill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1" name="テキスト ボックス 21"/>
            <p:cNvSpPr/>
            <p:nvPr/>
          </p:nvSpPr>
          <p:spPr>
            <a:xfrm>
              <a:off x="6215040" y="4572000"/>
              <a:ext cx="292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entury Schoolbook"/>
                </a:rPr>
                <a:t>非計画購買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02" name="スライド番号プレースホルダ 2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A4D4-04B4-415A-A657-8334FC773C5C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1320" y="14292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e8637"/>
                </a:solidFill>
                <a:latin typeface="Century Schoolbook"/>
              </a:rPr>
              <a:t>店内刺激の重要性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グループ化 11" descr=""/>
          <p:cNvPicPr/>
          <p:nvPr/>
        </p:nvPicPr>
        <p:blipFill>
          <a:blip r:embed="rId1"/>
          <a:stretch/>
        </p:blipFill>
        <p:spPr>
          <a:xfrm>
            <a:off x="-165240" y="3548160"/>
            <a:ext cx="9517320" cy="2908080"/>
          </a:xfrm>
          <a:prstGeom prst="rect">
            <a:avLst/>
          </a:prstGeom>
          <a:ln w="0">
            <a:noFill/>
          </a:ln>
        </p:spPr>
      </p:pic>
      <p:pic>
        <p:nvPicPr>
          <p:cNvPr id="405" name="グループ化 12" descr=""/>
          <p:cNvPicPr/>
          <p:nvPr/>
        </p:nvPicPr>
        <p:blipFill>
          <a:blip r:embed="rId2"/>
          <a:stretch/>
        </p:blipFill>
        <p:spPr>
          <a:xfrm>
            <a:off x="-165240" y="858960"/>
            <a:ext cx="9259920" cy="2517480"/>
          </a:xfrm>
          <a:prstGeom prst="rect">
            <a:avLst/>
          </a:prstGeom>
          <a:ln w="0">
            <a:noFill/>
          </a:ln>
        </p:spPr>
      </p:pic>
      <p:grpSp>
        <p:nvGrpSpPr>
          <p:cNvPr id="406" name="グループ化 11"/>
          <p:cNvGrpSpPr/>
          <p:nvPr/>
        </p:nvGrpSpPr>
        <p:grpSpPr>
          <a:xfrm>
            <a:off x="1119240" y="3132000"/>
            <a:ext cx="7800840" cy="2812320"/>
            <a:chOff x="1119240" y="3132000"/>
            <a:chExt cx="7800840" cy="2812320"/>
          </a:xfrm>
        </p:grpSpPr>
        <p:grpSp>
          <p:nvGrpSpPr>
            <p:cNvPr id="407" name="爆発 1 7"/>
            <p:cNvGrpSpPr/>
            <p:nvPr/>
          </p:nvGrpSpPr>
          <p:grpSpPr>
            <a:xfrm>
              <a:off x="1119240" y="3132000"/>
              <a:ext cx="7800840" cy="2745000"/>
              <a:chOff x="1119240" y="3132000"/>
              <a:chExt cx="7800840" cy="2745000"/>
            </a:xfrm>
          </p:grpSpPr>
          <p:pic>
            <p:nvPicPr>
              <p:cNvPr id="408" name="爆発 1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9240" y="3132000"/>
                <a:ext cx="7800840" cy="274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 rot="20681400">
                <a:off x="2884320" y="4130640"/>
                <a:ext cx="420516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410" name="テキスト ボックス 5"/>
            <p:cNvSpPr/>
            <p:nvPr/>
          </p:nvSpPr>
          <p:spPr>
            <a:xfrm rot="20681400">
              <a:off x="2754000" y="3945960"/>
              <a:ext cx="4912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Century Schoolbook"/>
                </a:rPr>
                <a:t>店頭活動は、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Century Schoolbook"/>
                </a:rPr>
                <a:t>小売企業とメーカーの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Century Schoolbook"/>
                </a:rPr>
                <a:t>共通の関心事！！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11" name="スライド番号プレースホルダ 1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7220-C3E3-4165-BE6B-2876A8AA2093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対角する 2 つの角を切り取った四角形 6"/>
          <p:cNvGrpSpPr/>
          <p:nvPr/>
        </p:nvGrpSpPr>
        <p:grpSpPr>
          <a:xfrm>
            <a:off x="146160" y="4432320"/>
            <a:ext cx="8716680" cy="1998720"/>
            <a:chOff x="146160" y="4432320"/>
            <a:chExt cx="8716680" cy="1998720"/>
          </a:xfrm>
        </p:grpSpPr>
        <p:pic>
          <p:nvPicPr>
            <p:cNvPr id="413" name="対角する 2 つの角を切り取った四角形 6" descr=""/>
            <p:cNvPicPr/>
            <p:nvPr/>
          </p:nvPicPr>
          <p:blipFill>
            <a:blip r:embed="rId1"/>
            <a:stretch/>
          </p:blipFill>
          <p:spPr>
            <a:xfrm>
              <a:off x="146160" y="4432320"/>
              <a:ext cx="8716680" cy="19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428760" y="4714920"/>
              <a:ext cx="814392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15" name="角丸四角形 10"/>
          <p:cNvSpPr/>
          <p:nvPr/>
        </p:nvSpPr>
        <p:spPr>
          <a:xfrm>
            <a:off x="357120" y="2071800"/>
            <a:ext cx="8072640" cy="150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580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e8637"/>
                </a:solidFill>
                <a:latin typeface="Century Schoolbook"/>
              </a:rPr>
              <a:t>テスター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42600" y="4714920"/>
            <a:ext cx="80722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Century Schoolbook"/>
              </a:rPr>
              <a:t>消費者に実際の使用感や味わいなどを知ってもらう「お試しサービス」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entury Schoolbook"/>
              </a:rPr>
              <a:t>（日本経済新聞２００７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/</a:t>
            </a:r>
            <a:r>
              <a:rPr b="0" lang="ja-JP" sz="2600" spc="-1" strike="noStrike">
                <a:solidFill>
                  <a:srgbClr val="000000"/>
                </a:solidFill>
                <a:latin typeface="Century Schoolbook"/>
              </a:rPr>
              <a:t>０１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/</a:t>
            </a:r>
            <a:r>
              <a:rPr b="0" lang="ja-JP" sz="2600" spc="-1" strike="noStrike">
                <a:solidFill>
                  <a:srgbClr val="000000"/>
                </a:solidFill>
                <a:latin typeface="Century Schoolbook"/>
              </a:rPr>
              <a:t>２６）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テキスト ボックス 7"/>
          <p:cNvSpPr/>
          <p:nvPr/>
        </p:nvSpPr>
        <p:spPr>
          <a:xfrm>
            <a:off x="571680" y="2071800"/>
            <a:ext cx="79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 Schoolbook"/>
              </a:rPr>
              <a:t>普通では</a:t>
            </a:r>
            <a:r>
              <a:rPr b="1" lang="ja-JP" sz="2800" spc="-1" strike="noStrike">
                <a:solidFill>
                  <a:srgbClr val="000000"/>
                </a:solidFill>
                <a:latin typeface="Century Schoolbook"/>
              </a:rPr>
              <a:t>購買後にしか体験できない</a:t>
            </a:r>
            <a:r>
              <a:rPr b="0" lang="ja-JP" sz="2800" spc="-1" strike="noStrike">
                <a:solidFill>
                  <a:srgbClr val="000000"/>
                </a:solidFill>
                <a:latin typeface="Century Schoolbook"/>
              </a:rPr>
              <a:t>ものを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entury Schoolbook"/>
              </a:rPr>
              <a:t>購入前に体験でき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テキスト ボックス 11"/>
          <p:cNvSpPr/>
          <p:nvPr/>
        </p:nvSpPr>
        <p:spPr>
          <a:xfrm>
            <a:off x="1571760" y="307188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.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ワックス、化粧品、ペン、試乗、視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0" name="Picture 5" descr="C:\Program Files\Microsoft Office\Media\CntCD1\Animated\j0283247.gif"/>
          <p:cNvPicPr/>
          <p:nvPr/>
        </p:nvPicPr>
        <p:blipFill>
          <a:blip r:embed="rId2"/>
          <a:stretch/>
        </p:blipFill>
        <p:spPr>
          <a:xfrm>
            <a:off x="285840" y="0"/>
            <a:ext cx="1433520" cy="1643040"/>
          </a:xfrm>
          <a:prstGeom prst="rect">
            <a:avLst/>
          </a:prstGeom>
          <a:ln w="0">
            <a:noFill/>
          </a:ln>
        </p:spPr>
      </p:pic>
      <p:sp>
        <p:nvSpPr>
          <p:cNvPr id="421" name="スライド番号プレースホルダ 1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D4CD-A67F-4F4C-A23B-6266F712CC83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972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e8637"/>
                </a:solidFill>
                <a:latin typeface="Century Schoolbook"/>
              </a:rPr>
              <a:t>テスターの現状①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3" name="グループ化 11" descr=""/>
          <p:cNvPicPr/>
          <p:nvPr/>
        </p:nvPicPr>
        <p:blipFill>
          <a:blip r:embed="rId1"/>
          <a:stretch/>
        </p:blipFill>
        <p:spPr>
          <a:xfrm>
            <a:off x="182520" y="1146240"/>
            <a:ext cx="8577360" cy="3863880"/>
          </a:xfrm>
          <a:prstGeom prst="rect">
            <a:avLst/>
          </a:prstGeom>
          <a:ln w="0">
            <a:noFill/>
          </a:ln>
        </p:spPr>
      </p:pic>
      <p:sp>
        <p:nvSpPr>
          <p:cNvPr id="424" name="テキスト ボックス 7"/>
          <p:cNvSpPr/>
          <p:nvPr/>
        </p:nvSpPr>
        <p:spPr>
          <a:xfrm>
            <a:off x="0" y="78588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Schoolbook"/>
              </a:rPr>
              <a:t>店内刺激の中でも最近増えてきているテスタ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グループ化 13" descr=""/>
          <p:cNvPicPr/>
          <p:nvPr/>
        </p:nvPicPr>
        <p:blipFill>
          <a:blip r:embed="rId2"/>
          <a:stretch/>
        </p:blipFill>
        <p:spPr>
          <a:xfrm>
            <a:off x="182520" y="3754440"/>
            <a:ext cx="8570880" cy="3541680"/>
          </a:xfrm>
          <a:prstGeom prst="rect">
            <a:avLst/>
          </a:prstGeom>
          <a:ln w="0">
            <a:noFill/>
          </a:ln>
        </p:spPr>
      </p:pic>
      <p:sp>
        <p:nvSpPr>
          <p:cNvPr id="426" name="スライド番号プレースホルダ 1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662C-0B4C-4190-BDAA-6D26E67F7A5C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対角する 2 つの角を切り取った四角形 6"/>
          <p:cNvGrpSpPr/>
          <p:nvPr/>
        </p:nvGrpSpPr>
        <p:grpSpPr>
          <a:xfrm>
            <a:off x="360360" y="1573200"/>
            <a:ext cx="8002440" cy="2005200"/>
            <a:chOff x="360360" y="1573200"/>
            <a:chExt cx="8002440" cy="2005200"/>
          </a:xfrm>
        </p:grpSpPr>
        <p:pic>
          <p:nvPicPr>
            <p:cNvPr id="428" name="対角する 2 つの角を切り取った四角形 6" descr=""/>
            <p:cNvPicPr/>
            <p:nvPr/>
          </p:nvPicPr>
          <p:blipFill>
            <a:blip r:embed="rId1"/>
            <a:stretch/>
          </p:blipFill>
          <p:spPr>
            <a:xfrm>
              <a:off x="360360" y="1573200"/>
              <a:ext cx="800244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642960" y="1857240"/>
              <a:ext cx="742932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Century Schoolbook"/>
              </a:rPr>
              <a:t>テスターの現状②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テキスト ボックス 3"/>
          <p:cNvSpPr/>
          <p:nvPr/>
        </p:nvSpPr>
        <p:spPr>
          <a:xfrm>
            <a:off x="642960" y="1928880"/>
            <a:ext cx="7429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 Schoolbook"/>
              </a:rPr>
              <a:t>購入時に消臭・芳香剤の香りテスターあったら「試す」９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 Schoolbook"/>
              </a:rPr>
              <a:t>（アイシェア　２００９）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爆発 2 4"/>
          <p:cNvSpPr/>
          <p:nvPr/>
        </p:nvSpPr>
        <p:spPr>
          <a:xfrm>
            <a:off x="500040" y="4643280"/>
            <a:ext cx="7500960" cy="1928880"/>
          </a:xfrm>
          <a:prstGeom prst="irregularSeal2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テキスト ボックス 5"/>
          <p:cNvSpPr/>
          <p:nvPr/>
        </p:nvSpPr>
        <p:spPr>
          <a:xfrm>
            <a:off x="2000160" y="5286240"/>
            <a:ext cx="514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Century Schoolbook"/>
              </a:rPr>
              <a:t>テスターは必要！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4" name="Picture 9" descr="C:\Program Files\Microsoft Office\Media\CntCD1\Animated\j0283253.gif"/>
          <p:cNvPicPr/>
          <p:nvPr/>
        </p:nvPicPr>
        <p:blipFill>
          <a:blip r:embed="rId2"/>
          <a:stretch/>
        </p:blipFill>
        <p:spPr>
          <a:xfrm rot="415800">
            <a:off x="6498720" y="5384880"/>
            <a:ext cx="1657440" cy="1057320"/>
          </a:xfrm>
          <a:prstGeom prst="rect">
            <a:avLst/>
          </a:prstGeom>
          <a:ln w="0">
            <a:noFill/>
          </a:ln>
        </p:spPr>
      </p:pic>
      <p:sp>
        <p:nvSpPr>
          <p:cNvPr id="435" name="スライド番号プレースホルダ 10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E9B8-0442-43FE-8849-EE622BFA9732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ff0000"/>
                </a:solidFill>
                <a:latin typeface="Century Schoolbook"/>
              </a:rPr>
              <a:t>しかし実際は・・・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437" name="グループ化 18"/>
          <p:cNvGrpSpPr/>
          <p:nvPr/>
        </p:nvGrpSpPr>
        <p:grpSpPr>
          <a:xfrm>
            <a:off x="571680" y="1357200"/>
            <a:ext cx="4643280" cy="3143520"/>
            <a:chOff x="571680" y="1357200"/>
            <a:chExt cx="4643280" cy="3143520"/>
          </a:xfrm>
        </p:grpSpPr>
        <p:sp>
          <p:nvSpPr>
            <p:cNvPr id="438" name="円形吹き出し 13"/>
            <p:cNvSpPr/>
            <p:nvPr/>
          </p:nvSpPr>
          <p:spPr>
            <a:xfrm>
              <a:off x="1928880" y="1357200"/>
              <a:ext cx="3286080" cy="1714680"/>
            </a:xfrm>
            <a:prstGeom prst="wedgeEllipseCallout">
              <a:avLst>
                <a:gd name="adj1" fmla="val -53722"/>
                <a:gd name="adj2" fmla="val 53462"/>
              </a:avLst>
            </a:prstGeom>
            <a:solidFill>
              <a:srgbClr val="ffffff"/>
            </a:soli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pic>
          <p:nvPicPr>
            <p:cNvPr id="439" name="Picture 8" descr="C:\Users\a4108804\AppData\Local\Microsoft\Windows\Temporary Internet Files\Content.IE5\M8RFLZZC\MCj03891640000[1].wmf"/>
            <p:cNvPicPr/>
            <p:nvPr/>
          </p:nvPicPr>
          <p:blipFill>
            <a:blip r:embed="rId1"/>
            <a:stretch/>
          </p:blipFill>
          <p:spPr>
            <a:xfrm>
              <a:off x="571680" y="3000240"/>
              <a:ext cx="192888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テキスト ボックス 14"/>
            <p:cNvSpPr/>
            <p:nvPr/>
          </p:nvSpPr>
          <p:spPr>
            <a:xfrm>
              <a:off x="2214720" y="1714320"/>
              <a:ext cx="285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entury Schoolbook"/>
                </a:rPr>
                <a:t>おっ、テスターだ！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entury Schoolbook"/>
                </a:rPr>
                <a:t>こんな商品あるのか、試してみよう。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41" name="グループ化 19"/>
          <p:cNvGrpSpPr/>
          <p:nvPr/>
        </p:nvGrpSpPr>
        <p:grpSpPr>
          <a:xfrm>
            <a:off x="5857920" y="1357200"/>
            <a:ext cx="2928960" cy="3143520"/>
            <a:chOff x="5857920" y="1357200"/>
            <a:chExt cx="2928960" cy="3143520"/>
          </a:xfrm>
        </p:grpSpPr>
        <p:sp>
          <p:nvSpPr>
            <p:cNvPr id="442" name="円形吹き出し 16"/>
            <p:cNvSpPr/>
            <p:nvPr/>
          </p:nvSpPr>
          <p:spPr>
            <a:xfrm>
              <a:off x="6000480" y="1357200"/>
              <a:ext cx="2786400" cy="1428840"/>
            </a:xfrm>
            <a:prstGeom prst="wedgeEllipseCallout">
              <a:avLst>
                <a:gd name="adj1" fmla="val -1888"/>
                <a:gd name="adj2" fmla="val 67773"/>
              </a:avLst>
            </a:prstGeom>
            <a:solidFill>
              <a:srgbClr val="ffffff"/>
            </a:soli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pic>
          <p:nvPicPr>
            <p:cNvPr id="443" name="Picture 9" descr="C:\Users\a4108804\AppData\Local\Microsoft\Windows\Temporary Internet Files\Content.IE5\RC5FIWKX\MCj03836340000[1].wmf"/>
            <p:cNvPicPr/>
            <p:nvPr/>
          </p:nvPicPr>
          <p:blipFill>
            <a:blip r:embed="rId2"/>
            <a:stretch/>
          </p:blipFill>
          <p:spPr>
            <a:xfrm>
              <a:off x="5857920" y="3000240"/>
              <a:ext cx="207180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テキスト ボックス 15"/>
            <p:cNvSpPr/>
            <p:nvPr/>
          </p:nvSpPr>
          <p:spPr>
            <a:xfrm>
              <a:off x="5929200" y="1785600"/>
              <a:ext cx="285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entury Schoolbook"/>
                </a:rPr>
                <a:t>気に入ったけど、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entury Schoolbook"/>
                </a:rPr>
                <a:t>買わなくていいや～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45" name="右矢印 17"/>
          <p:cNvSpPr/>
          <p:nvPr/>
        </p:nvSpPr>
        <p:spPr>
          <a:xfrm>
            <a:off x="3357720" y="3286080"/>
            <a:ext cx="2071440" cy="10717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46" name="グループ化 20"/>
          <p:cNvGrpSpPr/>
          <p:nvPr/>
        </p:nvGrpSpPr>
        <p:grpSpPr>
          <a:xfrm>
            <a:off x="285840" y="4438800"/>
            <a:ext cx="8501040" cy="2276280"/>
            <a:chOff x="285840" y="4438800"/>
            <a:chExt cx="8501040" cy="2276280"/>
          </a:xfrm>
        </p:grpSpPr>
        <p:sp>
          <p:nvSpPr>
            <p:cNvPr id="447" name="テキスト ボックス 4"/>
            <p:cNvSpPr/>
            <p:nvPr/>
          </p:nvSpPr>
          <p:spPr>
            <a:xfrm>
              <a:off x="1438200" y="4438800"/>
              <a:ext cx="514368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8" name="テキスト ボックス 5"/>
            <p:cNvSpPr/>
            <p:nvPr/>
          </p:nvSpPr>
          <p:spPr>
            <a:xfrm>
              <a:off x="428400" y="4643280"/>
              <a:ext cx="82868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entury Schoolbook"/>
                </a:rPr>
                <a:t>テスターを使う人は多くいるのに、テスターを使っても、試した商品に不満はないのにも関わらず、その場での購買へ至らないことが多いのではないだろうか？</a:t>
              </a:r>
              <a:endParaRPr b="0" lang="en-US" sz="3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9" name="角丸四角形 12"/>
            <p:cNvSpPr/>
            <p:nvPr/>
          </p:nvSpPr>
          <p:spPr>
            <a:xfrm>
              <a:off x="285840" y="4643280"/>
              <a:ext cx="8501040" cy="2071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50" name="スライド番号プレースホルダ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F375-6C19-45C4-BC3D-3E818D3FCF11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4108804SomeyaChikako</dc:creator>
  <dc:description/>
  <dc:language>en-US</dc:language>
  <cp:lastModifiedBy>Norio</cp:lastModifiedBy>
  <dcterms:modified xsi:type="dcterms:W3CDTF">2009-09-05T22:58:35Z</dcterms:modified>
  <cp:revision>159</cp:revision>
  <dc:subject/>
  <dc:title>店舗内刺激で 非計画購買を促進させる方法</dc:title>
</cp:coreProperties>
</file>